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882-4636-4DD3-B0F8-55FABFE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B87-43A9-43E8-8C64-B2941309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C12-3FA7-4B23-9E65-BA93A2E7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63A-F1A4-4C19-90B9-DE203F8E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C77F-4F36-4FE5-8F64-0FC09138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E84-2880-4CA7-95E7-C6A14835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4EC6-A75C-48B0-88CF-982D049D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9CA-343B-4AA8-A55B-720C690D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487C-B04E-42DA-8B04-D234DA7D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EFF4-A7FA-493A-8B0C-3C8BD751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1D66-60BA-47CA-93A9-ADAF32CB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C79-5475-4C6F-A4FC-B412AE5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F189-709E-4461-A660-ED9DFDB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120B-6205-4521-8509-3861BA1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BE3-F9A8-4645-B48F-42828BB3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2D5-B4BC-4971-BC70-F7D6F12C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664E-6068-4316-B4E2-60384288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B72-4079-4F75-8C44-847946D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B9F-94C8-4088-8212-0E11D52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ADE-8E29-4265-B264-7B32B571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D59-6E1A-47B8-AC02-5601BFF6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49E-C6D0-44B0-953B-D150CD9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B02-C2B5-420E-9244-5793DAC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40A-531D-438A-B7D1-515052E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33FA-1855-4549-9D41-BF84C2CBC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8E8-34EA-44B1-BA05-05DF99A6D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bs.org/wgbh/amex/weshallremain/the_films/episode_4_trailer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c44"/>
                </a:solidFill>
                <a:latin typeface="Arial"/>
              </a:rPr>
              <a:t>How do oppressed people survive?: Native American Indian Assimilation and Resistance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Joshua Fisher and Shoshana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F:\Portland State University\Fall 2009, Certificate Public Management\PA 511, Public Management\Green Paper, Indian Affairs\Western_Indian_Wars.jpg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Chart 6"/>
          <p:cNvGraphicFramePr/>
          <p:nvPr/>
        </p:nvGraphicFramePr>
        <p:xfrm>
          <a:off x="0" y="3124080"/>
          <a:ext cx="350532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Char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24080"/>
                    <a:ext cx="35053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Questions to think abou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re the Apaches assimilated or exterminated? In what w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some benefits of reservation life for the Apaches? For the White sett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hallenges did the Apaches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it harder to assimilate or face exterminatio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BS American Experience: We Shall Remai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2"/>
              </a:rPr>
              <a:t>We Shall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ding thought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gress shall have Power … To regulate Commerce with foreign Nations, and among the several States, and with the Indian Tribes”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.S. Constitution: Article I, section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ost mention Indian Tribes get in the U.S.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the government overstep its bounds by creating reserv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ways did the reservation system (which served to both assimilate and exterminate Native peoples) reflect economic interests of the ti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7:39:15Z</dcterms:created>
  <dc:creator>Shoshana McClellan</dc:creator>
  <dc:description/>
  <dc:language>en-US</dc:language>
  <cp:lastModifiedBy>Shoshana McClellan</cp:lastModifiedBy>
  <dcterms:modified xsi:type="dcterms:W3CDTF">2011-08-18T05:17:09Z</dcterms:modified>
  <cp:revision>10</cp:revision>
  <dc:subject/>
  <dc:title>Native American Indian Assimilation</dc:title>
</cp:coreProperties>
</file>